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BC5-66F7-4F7B-BA87-88A94970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1DF-1BFA-426E-90C7-C2928D2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BA4-9818-490A-801F-F99AF176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2C2-4D26-4180-9A2F-A3E7BC78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BEE-BF37-408C-A2C1-EB4259C3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E1B-C6D1-488B-97C2-1C4211D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691-319E-4EC0-AF26-7F59EC6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79C-B1A3-4739-930A-31BB93DD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61C-0BFF-4817-A569-CCDC03AA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A40-035F-4EF9-B730-DCE1B0C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FD4-C125-49B0-8B45-5B2A025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B23-A623-416F-B87F-EF49C3B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F8FE11-DCC9-41EC-85C9-0F1AEDFD169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ficinas WEB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E Fátima Gaiotto Samp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essores da S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mael Rocha Ju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gusto Francisco Teix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lson de Araujo Nasc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cessidade de atualiza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 de novas ferrament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EB 2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vegar ou habi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uno protagoni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edi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zir novas ferramentas de WEB 2.0, no processo de ensino e aprendizag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horar a utilização das S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er novas ferramentas para divulgação de trabalhos dos professores e alu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logs cri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a Prof. K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a Prof. Lu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3º ano do Ensino Mé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Prof. Au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g do Prof Kan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laLi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mbiente onde estão sendo realizadas atividades com alunos do 3º ano do Ensino Mé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Web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ebquest: Gincana Tecnológica, construção interdiscipl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ficina de Cr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s desenvolvidos por alunos do 5º an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vro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dows XP</dc:creator>
  <dc:description/>
  <dc:language>en-US</dc:language>
  <cp:lastModifiedBy>Windows XP</cp:lastModifiedBy>
  <cp:revision>0</cp:revision>
  <dc:subject/>
  <dc:title>Oficinas WEB 2.0</dc:title>
</cp:coreProperties>
</file>